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homp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77075" cy="93821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77600" cy="938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4008240" y="-360"/>
            <a:ext cx="30668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93760" y="703080"/>
            <a:ext cx="4689360" cy="351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960" rIns="9396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707760" y="4456080"/>
            <a:ext cx="5661000" cy="4222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0" y="891036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4008240" y="8910360"/>
            <a:ext cx="30668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4FE0-6861-472B-88C0-337B53BF2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93760" y="703440"/>
            <a:ext cx="4689360" cy="35175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7760" y="4456080"/>
            <a:ext cx="56610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4008600" y="891072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E109-8DF9-439E-BB05-BD37BE898B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1339-A844-4824-8CAD-4AC0CF3BB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09D1-1DC6-4720-A84C-D8916BA7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D5AE-01A6-4999-955A-93FA2687A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8C0C-ABC2-44BC-8815-9DE10C04D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FE9A-8CF9-4510-A128-78F4AE63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B794-3809-44A9-80BC-ED13E501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ACC6-D549-45F7-B5D6-F5708DFD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278D-375A-44C0-9193-69748952C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FC4D-1ED2-459B-A4B1-713C26F2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8DF6-6E59-417A-A4A9-57847F84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4697-804C-467C-A45E-08D35270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70AC-519A-4E2F-8FDB-D1D6F56E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124F-DC07-40A8-9B7C-F4B06037800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omp.wav"/><Relationship Id="rId3" Type="http://schemas.openxmlformats.org/officeDocument/2006/relationships/audio" Target="../media/chomp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omp.wav"/><Relationship Id="rId3" Type="http://schemas.openxmlformats.org/officeDocument/2006/relationships/audio" Target="../media/chomp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6"/>
          <p:cNvSpPr/>
          <p:nvPr/>
        </p:nvSpPr>
        <p:spPr>
          <a:xfrm>
            <a:off x="6400800" y="3886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6400800" y="4419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5" descr="gorilla.jpg"/>
          <p:cNvPicPr/>
          <p:nvPr/>
        </p:nvPicPr>
        <p:blipFill>
          <a:blip r:embed="rId1"/>
          <a:srcRect l="17465" t="0" r="0" b="0"/>
          <a:stretch/>
        </p:blipFill>
        <p:spPr>
          <a:xfrm>
            <a:off x="0" y="1295280"/>
            <a:ext cx="3962520" cy="4876920"/>
          </a:xfrm>
          <a:prstGeom prst="rect">
            <a:avLst/>
          </a:prstGeom>
          <a:ln w="0">
            <a:noFill/>
          </a:ln>
        </p:spPr>
      </p:pic>
      <p:sp>
        <p:nvSpPr>
          <p:cNvPr id="89" name="Rounded Rectangular Callout 4"/>
          <p:cNvSpPr/>
          <p:nvPr/>
        </p:nvSpPr>
        <p:spPr>
          <a:xfrm>
            <a:off x="5105520" y="3048120"/>
            <a:ext cx="3352680" cy="2666880"/>
          </a:xfrm>
          <a:prstGeom prst="wedgeRoundRectCallout">
            <a:avLst>
              <a:gd name="adj1" fmla="val -101467"/>
              <a:gd name="adj2" fmla="val 878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is brought to you by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Grammar Byte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©2010 by Robin L. Simm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Quick Tes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762120" y="1676520"/>
            <a:ext cx="76197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Direction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items that follow, choose the option that corrects an error in the underlined portion(s). If no error exists, choose “No change is necessary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7" descr="point.jpg"/>
          <p:cNvPicPr/>
          <p:nvPr/>
        </p:nvPicPr>
        <p:blipFill>
          <a:blip r:embed="rId1"/>
          <a:stretch/>
        </p:blipFill>
        <p:spPr>
          <a:xfrm>
            <a:off x="2998800" y="3657600"/>
            <a:ext cx="1881000" cy="3200400"/>
          </a:xfrm>
          <a:prstGeom prst="rect">
            <a:avLst/>
          </a:prstGeom>
          <a:ln w="0">
            <a:noFill/>
          </a:ln>
        </p:spPr>
      </p:pic>
      <p:sp>
        <p:nvSpPr>
          <p:cNvPr id="135" name="Rounded Rectangular Callout 6"/>
          <p:cNvSpPr/>
          <p:nvPr/>
        </p:nvSpPr>
        <p:spPr>
          <a:xfrm>
            <a:off x="5638680" y="4495680"/>
            <a:ext cx="2133720" cy="1752840"/>
          </a:xfrm>
          <a:prstGeom prst="wedgeRoundRectCallout">
            <a:avLst>
              <a:gd name="adj1" fmla="val -124648"/>
              <a:gd name="adj2" fmla="val -6075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w me what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you kn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9451"/>
                            </p:stCondLst>
                            <p:childTnLst>
                              <p:par>
                                <p:cTn id="2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9951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TextBox 3"/>
          <p:cNvSpPr/>
          <p:nvPr/>
        </p:nvSpPr>
        <p:spPr>
          <a:xfrm>
            <a:off x="533520" y="1676520"/>
            <a:ext cx="807696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iesha is good at math. See if she and Sam wi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oin our study group. Clueless students like w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n use all the help we can ge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533520" y="1676520"/>
            <a:ext cx="8076960" cy="48765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iesha is good at math. See if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nd Sam wi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oi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ou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tudy group. Clueless students lik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                                                            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n use all the help we can ge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Box 8"/>
          <p:cNvSpPr/>
          <p:nvPr/>
        </p:nvSpPr>
        <p:spPr>
          <a:xfrm>
            <a:off x="533520" y="1676520"/>
            <a:ext cx="8076960" cy="48765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iesha is good at math. See if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nd Sam wi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oi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ou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tudy group. Clueless students lik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               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n use all the help we can ge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2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533520" y="15238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rvin got an aisle seat. Cherise sat betwe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yron and he. Together they slurped their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das as the guest lecturer droned on about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man Empi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yron and 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Box 9"/>
          <p:cNvSpPr/>
          <p:nvPr/>
        </p:nvSpPr>
        <p:spPr>
          <a:xfrm>
            <a:off x="533520" y="1523880"/>
            <a:ext cx="807696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rvin got an aisle seat. Cherise sat betwe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Byron and 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 Together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lurpe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das as the guest lecturer droned on about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man Empi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yron and 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533520" y="1523880"/>
            <a:ext cx="807696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rvin got an aisle seat. Cherise sat betwe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Byron and hi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 Together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lurpe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das as the guest lecturer droned on about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man Empi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yron and 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3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533520" y="1447920"/>
            <a:ext cx="8076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 and Tonya prefer morning classes. Ou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ommates like to stay up late playing loud vide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ames. We hope to kick them out of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artment next seme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nya and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 tw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>
            <a:off x="533520" y="1447920"/>
            <a:ext cx="8076960" cy="52578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Me and Tony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prefer morning classes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Ou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ommates like to stay up late playing loud vide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ames. We hope to kick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ut of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artment next seme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nya and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 tw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>
            <a:off x="533520" y="1447920"/>
            <a:ext cx="8076960" cy="52578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Tonya and 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prefer morning classes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Ou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ommates like to stay up late playing loud vide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ames. We hope to kick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ut of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artment next seme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onya and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 tw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4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TextBox 3"/>
          <p:cNvSpPr/>
          <p:nvPr/>
        </p:nvSpPr>
        <p:spPr>
          <a:xfrm>
            <a:off x="533520" y="1676520"/>
            <a:ext cx="807696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ila has a golden retriever. Perhaps that hair 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our green beans comes from she or the do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nce the strand is dark in color, I’ll bet it’s h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7"/>
          <p:cNvSpPr/>
          <p:nvPr/>
        </p:nvSpPr>
        <p:spPr>
          <a:xfrm>
            <a:off x="533520" y="1676520"/>
            <a:ext cx="8076960" cy="48765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ila has a golden retriever. Perhaps that hair 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you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green beans comes from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r the do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nce the strand is dark in color, I’ll bet it’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e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8"/>
          <p:cNvSpPr/>
          <p:nvPr/>
        </p:nvSpPr>
        <p:spPr>
          <a:xfrm>
            <a:off x="533520" y="1676520"/>
            <a:ext cx="8076960" cy="48765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ila has a golden retriever. Perhaps that hair 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you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green beans comes from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h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r the do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nce the strand is dark in color, I’ll bet it’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e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5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TextBox 3"/>
          <p:cNvSpPr/>
          <p:nvPr/>
        </p:nvSpPr>
        <p:spPr>
          <a:xfrm>
            <a:off x="533520" y="15238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bigail studied six hours for the chemistry exa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she and her lab partner saw the test, the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oth knew their hard work would protect thei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gh aver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533520" y="1523880"/>
            <a:ext cx="807696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bigail studied six hours for the chemistry exa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nd her lab partner saw the test,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oth knew their hard work would protec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gh aver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533520" y="1523880"/>
            <a:ext cx="807696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bigail studied six hours for the chemistry exa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nd her lab partner saw the test,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oth knew their hard work would protec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gh aver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6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457200" y="167652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icholas likes to gossip. Be careful what you sa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ound Julie and him. They both believe that you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ws—whether good or bad—is their’s to spr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and Jul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Box 7"/>
          <p:cNvSpPr/>
          <p:nvPr/>
        </p:nvSpPr>
        <p:spPr>
          <a:xfrm>
            <a:off x="457200" y="1676520"/>
            <a:ext cx="8229600" cy="48006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icholas likes to gossip. Be careful what you sa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oun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Julie and hi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oth believe that you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ws—whether good or bad—i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’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spr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and Jul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Box 8"/>
          <p:cNvSpPr/>
          <p:nvPr/>
        </p:nvSpPr>
        <p:spPr>
          <a:xfrm>
            <a:off x="457200" y="1676520"/>
            <a:ext cx="8229600" cy="48006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icholas likes to gossip. Be careful what you sa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oun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Julie and hi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oth believe that you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ws—whether good or bad—is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thei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spr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and Jul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he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7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533520" y="15238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n though Grandma and I brought a calculat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 coupons, we spent too much money groce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opping. The fault is mainly her’s, as s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sisted on ice cream that neither of us need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 and Grand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533520" y="1523880"/>
            <a:ext cx="807696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n though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Grandma and 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rought a calculat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 coupons, we spent too much money groce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opping. The fault is mainl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er’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as s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sisted on ice cream that neither of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need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 and Grand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Box 9"/>
          <p:cNvSpPr/>
          <p:nvPr/>
        </p:nvSpPr>
        <p:spPr>
          <a:xfrm>
            <a:off x="533520" y="1523880"/>
            <a:ext cx="807696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n though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Grandma and 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rought a calculat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 coupons, we spent too much money groce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opping. The fault is mainly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he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as s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sisted on ice cream that neither of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need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 and Grand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8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m gave me and Sheila a lecture about goo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nners. Mom had heard that me and Shei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rgot to send Aunt Louise a thank-you card for ou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ristmas pres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ila and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ila and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m gav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me and Sheil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 lecture about goo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nners. Mom had heard tha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me and Sheil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rgot to send Aunt Louise a thank-you card for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ou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ristmas pres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ila and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ila and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Box 8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m gav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me and Sheil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 lecture about goo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nners. Mom had heard that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Sheila and 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rgot to send Aunt Louise a thank-you card for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ou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ristmas pres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ila and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heila and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9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533520" y="15238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 friends and I spent biology lab eating popcor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 giggling. After lab, Mr. Rivera threatened w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ree with withdrawal. He insisted that ou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havior and attitude must ch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 and my frie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Box 7"/>
          <p:cNvSpPr/>
          <p:nvPr/>
        </p:nvSpPr>
        <p:spPr>
          <a:xfrm>
            <a:off x="533520" y="1523880"/>
            <a:ext cx="830556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My friends and 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pent biology lab eating popcor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 giggling. After lab, Mr. Rivera threatene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ree with withdrawal. He insisted tha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ou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havior and attitude must ch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 and my frie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Box 8"/>
          <p:cNvSpPr/>
          <p:nvPr/>
        </p:nvSpPr>
        <p:spPr>
          <a:xfrm>
            <a:off x="533520" y="1523880"/>
            <a:ext cx="830556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My friends and 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pent biology lab eating popcor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 giggling. After lab, Mr. Rivera threatened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ree with withdrawal. He insisted tha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ou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havior and attitude must ch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 and my frie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think.jpg"/>
          <p:cNvPicPr/>
          <p:nvPr/>
        </p:nvPicPr>
        <p:blipFill>
          <a:blip r:embed="rId1"/>
          <a:stretch/>
        </p:blipFill>
        <p:spPr>
          <a:xfrm>
            <a:off x="1523880" y="2133720"/>
            <a:ext cx="5119920" cy="4510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noun Case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Rounded Rectangular Callout 7"/>
          <p:cNvSpPr/>
          <p:nvPr/>
        </p:nvSpPr>
        <p:spPr>
          <a:xfrm>
            <a:off x="304920" y="1981080"/>
            <a:ext cx="2133360" cy="2133720"/>
          </a:xfrm>
          <a:prstGeom prst="wedgeRoundRectCallout">
            <a:avLst>
              <a:gd name="adj1" fmla="val 161824"/>
              <a:gd name="adj2" fmla="val 3972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 I need the pronoun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the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ounded Rectangular Callout 8"/>
          <p:cNvSpPr/>
          <p:nvPr/>
        </p:nvSpPr>
        <p:spPr>
          <a:xfrm>
            <a:off x="6705720" y="3200400"/>
            <a:ext cx="2133360" cy="2286000"/>
          </a:xfrm>
          <a:prstGeom prst="wedgeRoundRectCallout">
            <a:avLst>
              <a:gd name="adj1" fmla="val -117527"/>
              <a:gd name="adj2" fmla="val -48129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 do I need the pronoun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them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stea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701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0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TextBox 3"/>
          <p:cNvSpPr/>
          <p:nvPr/>
        </p:nvSpPr>
        <p:spPr>
          <a:xfrm>
            <a:off x="533520" y="15238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 gave our calculus notes to Diego and sh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 lent us theirs. Before the big exam,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 students need to make sure that we hav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 word Dr. Nguyen delivered in lec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s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Box 7"/>
          <p:cNvSpPr/>
          <p:nvPr/>
        </p:nvSpPr>
        <p:spPr>
          <a:xfrm>
            <a:off x="533520" y="1523880"/>
            <a:ext cx="807696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 gave our calculus notes to Diego an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 lent u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 Before the big exam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e stude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need to make sure that we hav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 word Dr. Nguyen delivered in lec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s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8"/>
          <p:cNvSpPr/>
          <p:nvPr/>
        </p:nvSpPr>
        <p:spPr>
          <a:xfrm>
            <a:off x="533520" y="1523880"/>
            <a:ext cx="807696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 gave our calculus notes to Diego and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h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 lent u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 Before the big exam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e stude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need to make sure that we hav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 word Dr. Nguyen delivered in lec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s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7"/>
          <p:cNvSpPr/>
          <p:nvPr/>
        </p:nvSpPr>
        <p:spPr>
          <a:xfrm>
            <a:off x="5486400" y="2895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6"/>
          <p:cNvSpPr/>
          <p:nvPr/>
        </p:nvSpPr>
        <p:spPr>
          <a:xfrm>
            <a:off x="5486400" y="3429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5" descr="gorilla.jpg"/>
          <p:cNvPicPr/>
          <p:nvPr/>
        </p:nvPicPr>
        <p:blipFill>
          <a:blip r:embed="rId1"/>
          <a:srcRect l="17465" t="0" r="0" b="0"/>
          <a:stretch/>
        </p:blipFill>
        <p:spPr>
          <a:xfrm>
            <a:off x="0" y="1295280"/>
            <a:ext cx="3962520" cy="4876920"/>
          </a:xfrm>
          <a:prstGeom prst="rect">
            <a:avLst/>
          </a:prstGeom>
          <a:ln w="0">
            <a:noFill/>
          </a:ln>
        </p:spPr>
      </p:pic>
      <p:sp>
        <p:nvSpPr>
          <p:cNvPr id="179" name="Rounded Rectangular Callout 4"/>
          <p:cNvSpPr/>
          <p:nvPr/>
        </p:nvSpPr>
        <p:spPr>
          <a:xfrm>
            <a:off x="4800600" y="2362320"/>
            <a:ext cx="3962520" cy="2895480"/>
          </a:xfrm>
          <a:prstGeom prst="wedgeRoundRectCallout">
            <a:avLst>
              <a:gd name="adj1" fmla="val -96148"/>
              <a:gd name="adj2" fmla="val 1680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Grammar Byte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ovides additional handouts and exercises on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pronoun c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Go to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chompchomp.com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3"/>
          <p:cNvSpPr/>
          <p:nvPr/>
        </p:nvSpPr>
        <p:spPr>
          <a:xfrm>
            <a:off x="2286000" y="289548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he End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brunette.jpg"/>
          <p:cNvPicPr/>
          <p:nvPr/>
        </p:nvPicPr>
        <p:blipFill>
          <a:blip r:embed="rId1"/>
          <a:srcRect l="3880" t="0" r="0" b="4687"/>
          <a:stretch/>
        </p:blipFill>
        <p:spPr>
          <a:xfrm>
            <a:off x="0" y="2209680"/>
            <a:ext cx="3772080" cy="4648320"/>
          </a:xfrm>
          <a:prstGeom prst="rect">
            <a:avLst/>
          </a:prstGeom>
          <a:ln w="0">
            <a:noFill/>
          </a:ln>
        </p:spPr>
      </p:pic>
      <p:sp>
        <p:nvSpPr>
          <p:cNvPr id="95" name="Rounded Rectangular Callout 2"/>
          <p:cNvSpPr/>
          <p:nvPr/>
        </p:nvSpPr>
        <p:spPr>
          <a:xfrm>
            <a:off x="5486400" y="2666880"/>
            <a:ext cx="3352680" cy="3505320"/>
          </a:xfrm>
          <a:prstGeom prst="wedgeRoundRectCallout">
            <a:avLst>
              <a:gd name="adj1" fmla="val -139023"/>
              <a:gd name="adj2" fmla="val 8555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covers when to us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subje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obje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an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possess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noun for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1523880"/>
            <a:ext cx="7010640" cy="3733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 pronoun case item on an objective test might look like this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ample Item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609480" y="1600200"/>
            <a:ext cx="79250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an and I offered to help move the furniture, bu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w residents rolled their eyes when the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w that us two had skinny ar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 and St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609480" y="1600200"/>
            <a:ext cx="792504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tan and 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ffered to help move the furniture, bu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w residents rolle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eyes when the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w tha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wo had skinny ar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 and St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609480" y="1600200"/>
            <a:ext cx="792504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tan and 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ffered to help move the furniture, bu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w residents rolle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eyes when the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w that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w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wo had skinny ar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 and St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w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17" descr="brunette02.jpg"/>
          <p:cNvPicPr/>
          <p:nvPr/>
        </p:nvPicPr>
        <p:blipFill>
          <a:blip r:embed="rId1"/>
          <a:stretch/>
        </p:blipFill>
        <p:spPr>
          <a:xfrm>
            <a:off x="7686720" y="3352680"/>
            <a:ext cx="1152360" cy="3353040"/>
          </a:xfrm>
          <a:prstGeom prst="rect">
            <a:avLst/>
          </a:prstGeom>
          <a:ln w="0">
            <a:noFill/>
          </a:ln>
        </p:spPr>
      </p:pic>
      <p:sp>
        <p:nvSpPr>
          <p:cNvPr id="102" name="Rounded Rectangular Callout 18"/>
          <p:cNvSpPr/>
          <p:nvPr/>
        </p:nvSpPr>
        <p:spPr>
          <a:xfrm>
            <a:off x="4114800" y="4114800"/>
            <a:ext cx="2209680" cy="1676520"/>
          </a:xfrm>
          <a:prstGeom prst="wedgeRoundRectCallout">
            <a:avLst>
              <a:gd name="adj1" fmla="val 121328"/>
              <a:gd name="adj2" fmla="val -6229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Stan and </a:t>
            </a:r>
            <a:r>
              <a:rPr b="1" i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thei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or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u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probl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ounded Rectangular Callout 19"/>
          <p:cNvSpPr/>
          <p:nvPr/>
        </p:nvSpPr>
        <p:spPr>
          <a:xfrm>
            <a:off x="4114800" y="4114800"/>
            <a:ext cx="2209680" cy="1676520"/>
          </a:xfrm>
          <a:prstGeom prst="wedgeRoundRectCallout">
            <a:avLst>
              <a:gd name="adj1" fmla="val 121328"/>
              <a:gd name="adj2" fmla="val -6320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U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eds to become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w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a change option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k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8"/>
          <p:cNvSpPr/>
          <p:nvPr/>
        </p:nvSpPr>
        <p:spPr>
          <a:xfrm>
            <a:off x="1143000" y="3581280"/>
            <a:ext cx="6858000" cy="10670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 and Meredith threw mashed potatoes at Hen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ubjective Pronouns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761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rms include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 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yo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s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w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and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 subject pronoun functions as the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subject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 a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ver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1143000" y="3581280"/>
            <a:ext cx="6858000" cy="10670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Meredith and I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w mashed potatoes at Hen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7" descr="point.jpg"/>
          <p:cNvPicPr/>
          <p:nvPr/>
        </p:nvPicPr>
        <p:blipFill>
          <a:blip r:embed="rId1"/>
          <a:stretch/>
        </p:blipFill>
        <p:spPr>
          <a:xfrm>
            <a:off x="1905120" y="4594320"/>
            <a:ext cx="1330200" cy="2263680"/>
          </a:xfrm>
          <a:prstGeom prst="rect">
            <a:avLst/>
          </a:prstGeom>
          <a:ln w="0">
            <a:noFill/>
          </a:ln>
        </p:spPr>
      </p:pic>
      <p:sp>
        <p:nvSpPr>
          <p:cNvPr id="109" name="Rounded Rectangular Callout 5"/>
          <p:cNvSpPr/>
          <p:nvPr/>
        </p:nvSpPr>
        <p:spPr>
          <a:xfrm>
            <a:off x="4343400" y="5029200"/>
            <a:ext cx="3048120" cy="1523880"/>
          </a:xfrm>
          <a:prstGeom prst="wedgeRoundRectCallout">
            <a:avLst>
              <a:gd name="adj1" fmla="val -105476"/>
              <a:gd name="adj2" fmla="val -50305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Me threw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shed potatoes? I don’t think so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731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231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8"/>
          <p:cNvSpPr/>
          <p:nvPr/>
        </p:nvSpPr>
        <p:spPr>
          <a:xfrm>
            <a:off x="1219320" y="3962520"/>
            <a:ext cx="6705360" cy="9903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st between you and I, Stevie shouldn’t try to kiss Grace with spinach in his teeth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7" descr="sit.jpg"/>
          <p:cNvPicPr/>
          <p:nvPr/>
        </p:nvPicPr>
        <p:blipFill>
          <a:blip r:embed="rId1"/>
          <a:stretch/>
        </p:blipFill>
        <p:spPr>
          <a:xfrm>
            <a:off x="6356520" y="5105520"/>
            <a:ext cx="2330280" cy="17524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Objective Pronouns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rms include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 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yo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h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hi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and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th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 objective pronoun functions as a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direct obje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indirect obje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or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object of a preposi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Rounded Rectangular Callout 5"/>
          <p:cNvSpPr/>
          <p:nvPr/>
        </p:nvSpPr>
        <p:spPr>
          <a:xfrm>
            <a:off x="1295280" y="5105520"/>
            <a:ext cx="3733920" cy="1523880"/>
          </a:xfrm>
          <a:prstGeom prst="wedgeRoundRectCallout">
            <a:avLst>
              <a:gd name="adj1" fmla="val 135162"/>
              <a:gd name="adj2" fmla="val -20305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fter a preposition lik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betwee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lways use th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objec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nou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219320" y="3962520"/>
            <a:ext cx="6705360" cy="9903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st between you and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 me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tevie shouldn’t try to kiss Grace with spinach in his teeth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Direct vs. Indirect Objects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 find a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 direct object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use this formula: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 subjec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 verb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 what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r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 who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 indirect objec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 whoever or whatever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 receiv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direct objec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838080" y="3809880"/>
            <a:ext cx="7467840" cy="9907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ystal gave Stevie a toothbrush before the kissing beg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6" descr="brunette.jpg"/>
          <p:cNvPicPr/>
          <p:nvPr/>
        </p:nvPicPr>
        <p:blipFill>
          <a:blip r:embed="rId1"/>
          <a:srcRect l="3880" t="0" r="0" b="4687"/>
          <a:stretch/>
        </p:blipFill>
        <p:spPr>
          <a:xfrm>
            <a:off x="0" y="4979880"/>
            <a:ext cx="1523880" cy="1878120"/>
          </a:xfrm>
          <a:prstGeom prst="rect">
            <a:avLst/>
          </a:prstGeom>
          <a:ln w="0">
            <a:noFill/>
          </a:ln>
        </p:spPr>
      </p:pic>
      <p:sp>
        <p:nvSpPr>
          <p:cNvPr id="120" name="Rounded Rectangular Callout 7"/>
          <p:cNvSpPr/>
          <p:nvPr/>
        </p:nvSpPr>
        <p:spPr>
          <a:xfrm>
            <a:off x="3886200" y="5105520"/>
            <a:ext cx="3733920" cy="1523880"/>
          </a:xfrm>
          <a:prstGeom prst="wedgeRoundRectCallout">
            <a:avLst>
              <a:gd name="adj1" fmla="val -130143"/>
              <a:gd name="adj2" fmla="val 769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ystal gave what? Th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toothbrus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th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dir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ounded Rectangular Callout 8"/>
          <p:cNvSpPr/>
          <p:nvPr/>
        </p:nvSpPr>
        <p:spPr>
          <a:xfrm>
            <a:off x="3886200" y="5105520"/>
            <a:ext cx="3733920" cy="1523880"/>
          </a:xfrm>
          <a:prstGeom prst="wedgeRoundRectCallout">
            <a:avLst>
              <a:gd name="adj1" fmla="val -130143"/>
              <a:gd name="adj2" fmla="val 769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o received the toothbrush?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Stevi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th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indir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838080" y="3809880"/>
            <a:ext cx="7467840" cy="9907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ystal gave Stevie a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 toothbrus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the kissing beg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Box 10"/>
          <p:cNvSpPr/>
          <p:nvPr/>
        </p:nvSpPr>
        <p:spPr>
          <a:xfrm>
            <a:off x="838080" y="3809880"/>
            <a:ext cx="7467840" cy="9907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ystal gave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 Stevi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toothbrus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the kissing beg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Box 11"/>
          <p:cNvSpPr/>
          <p:nvPr/>
        </p:nvSpPr>
        <p:spPr>
          <a:xfrm>
            <a:off x="838080" y="3809880"/>
            <a:ext cx="7467840" cy="12193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ystal gave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 him it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the kissing beg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ounded Rectangular Callout 12"/>
          <p:cNvSpPr/>
          <p:nvPr/>
        </p:nvSpPr>
        <p:spPr>
          <a:xfrm>
            <a:off x="3886200" y="5105520"/>
            <a:ext cx="3733920" cy="1523880"/>
          </a:xfrm>
          <a:prstGeom prst="wedgeRoundRectCallout">
            <a:avLst>
              <a:gd name="adj1" fmla="val -130143"/>
              <a:gd name="adj2" fmla="val 769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ways use objective pronouns lik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hi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i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replace obje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431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931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6432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501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701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8"/>
          <p:cNvSpPr/>
          <p:nvPr/>
        </p:nvSpPr>
        <p:spPr>
          <a:xfrm>
            <a:off x="914400" y="3733920"/>
            <a:ext cx="7315200" cy="14475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Johnnie stepped to the plate and hit a home run, we rubbed ours eyes in disbelie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Possessive Pronouns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23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rms include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 m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mi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you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you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h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he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h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i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ou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ou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and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 thei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ossessive pronouns do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 no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quire an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apostrophe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djective forms do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 no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gree with the nouns that follow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914400" y="3733920"/>
            <a:ext cx="7315200" cy="14475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Johnnie stepped to the plate and hit a home run, we rubbed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 ou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yes in disbelie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7" descr="kneel.jpg"/>
          <p:cNvPicPr/>
          <p:nvPr/>
        </p:nvPicPr>
        <p:blipFill>
          <a:blip r:embed="rId1"/>
          <a:stretch/>
        </p:blipFill>
        <p:spPr>
          <a:xfrm>
            <a:off x="582480" y="5110200"/>
            <a:ext cx="1017720" cy="1747800"/>
          </a:xfrm>
          <a:prstGeom prst="rect">
            <a:avLst/>
          </a:prstGeom>
          <a:ln w="0">
            <a:noFill/>
          </a:ln>
        </p:spPr>
      </p:pic>
      <p:sp>
        <p:nvSpPr>
          <p:cNvPr id="131" name="Rounded Rectangular Callout 5"/>
          <p:cNvSpPr/>
          <p:nvPr/>
        </p:nvSpPr>
        <p:spPr>
          <a:xfrm>
            <a:off x="4191120" y="4952880"/>
            <a:ext cx="3886200" cy="1828800"/>
          </a:xfrm>
          <a:prstGeom prst="wedgeRoundRectCallout">
            <a:avLst>
              <a:gd name="adj1" fmla="val -126430"/>
              <a:gd name="adj2" fmla="val -1930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Yo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o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ir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adjecti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Yo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h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o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irs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nou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901"/>
                            </p:stCondLst>
                            <p:childTnLst>
                              <p:par>
                                <p:cTn id="2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401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5:35:09Z</dcterms:created>
  <dc:creator>Robin L. Simmons</dc:creator>
  <dc:description>This presentation is ©2010 by Robin L. Simmons. All Rights Reserved.</dc:description>
  <cp:keywords>pronouns pronoun case grammar Grammar Bytes! Robin L. Simmons</cp:keywords>
  <dc:language>en-US</dc:language>
  <cp:lastModifiedBy>RSimmons</cp:lastModifiedBy>
  <dcterms:modified xsi:type="dcterms:W3CDTF">2010-01-04T18:31:39Z</dcterms:modified>
  <cp:revision>120</cp:revision>
  <dc:subject/>
  <dc:title>Pronoun Case</dc:title>
</cp:coreProperties>
</file>